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0DD-EB47-418F-A111-007497CC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42D-9662-4974-8DC7-2F00FC0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CE7-1886-403F-9795-E8501E9F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1C5-7568-4A75-BD01-29190FCE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848D-9C82-41BD-A01D-B41CD571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D259-8957-49C8-A70E-1DBD962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956-6173-4797-8877-0D5CADA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AE43-349E-405D-A25C-60A1B6A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F54-48CC-4013-9E3D-7109F43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06E-DA1B-44BA-AD3C-B5F5B36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0DC-B537-45DE-8F46-A27A36F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4E9-CB10-4C77-A0DF-EC10DC5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316F-7721-4DC7-BB9B-9DD88313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F16-5741-408A-B2A7-88ADF06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2B37-486E-4A74-8533-FB458F2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8BB-8A86-48BF-9D42-965DFE2E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99E8-3A28-4ABA-BEB9-137D3325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813-E5B5-4830-9E18-70B5C06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AB1-9394-4620-A880-28503B1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EC8-661E-417F-9245-70FA196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60A-DF11-439A-AB80-95D973F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DB6-1F41-46C7-B023-CF595F4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D57-EC38-42E3-829D-4FD3233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2F6-8C4E-4B9D-A28E-7113351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BF5-16FE-4E9F-8FF8-E6A2DA6BDA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E238-EA79-4821-8494-2759071815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DOL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 needed 22 ticket for the whole famili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epitom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 person or thing that is typical of or possesses to a high degree the features of a whole clas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exhort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To urge or warn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Ex officio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by virtue of office or official posi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fring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o encroach or trespas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ingratiat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bring (oneself, for example) into the favor or good graces of another, especially by deliberate effor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ssign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rite one paragraph using 5 of the words in your paragraph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 Kill A Mockingbird-Ch. 14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egin reading ch. 14 in clas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Do study guide questions and one journal response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Answer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e needed twenty-two tickets for the whole family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ule for this: In general, spell out numbers that can be written as two word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Freewrite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rite about one goal you want to achieve in the near futur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Vocabulary-Unit 7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Write a sentence if it doesn’t have one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Ameliorat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mprove, make bett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aplomb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elf-assurance, pois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ombastic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Inflated, pretentiou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allow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mmature or inexperience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drivel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To talk foolishly or childishl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7:35:44Z</dcterms:created>
  <dc:creator>rebecca</dc:creator>
  <dc:description/>
  <dc:language>en-US</dc:language>
  <cp:lastModifiedBy>rebecca</cp:lastModifiedBy>
  <dcterms:modified xsi:type="dcterms:W3CDTF">2009-02-17T16:16:09Z</dcterms:modified>
  <cp:revision>3</cp:revision>
  <dc:subject/>
  <dc:title>DOL</dc:title>
</cp:coreProperties>
</file>